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5E1-F2E6-43D8-B01D-83158113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47B-A0AF-47BE-8096-2C29A142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FC0-8115-4C73-8417-2B56630F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B3D-AA03-4209-9F07-FD2F00F9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337-D91A-4FE9-A80B-DA432DB2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64B-3A5A-48AC-A9F3-7D3705EC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B01-5F44-4D96-8E80-70FED475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B7B-6920-4312-91E3-0660CBB1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CA8D-2080-4219-AF01-DC1684A0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B68-C071-4BBF-8C81-3F671DE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879A-311C-45D4-9DE7-B8210EFC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C3B-7777-40B5-9FA4-D36E89AC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7D3F-6B2B-4AB0-8F2A-5E861420E9F9}" type="slidenum">
              <a:rPr b="0" lang="es-V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Public\Pictures\Sample Pictures\Pictures\Postgrado\Ecosistema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7 Rectángulo" descr=""/>
          <p:cNvPicPr/>
          <p:nvPr/>
        </p:nvPicPr>
        <p:blipFill>
          <a:blip r:embed="rId2"/>
          <a:stretch/>
        </p:blipFill>
        <p:spPr>
          <a:xfrm>
            <a:off x="-6480" y="2359080"/>
            <a:ext cx="96681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22:46:45Z</dcterms:created>
  <dc:creator>user</dc:creator>
  <dc:description/>
  <dc:language>en-US</dc:language>
  <cp:lastModifiedBy>johana</cp:lastModifiedBy>
  <dcterms:modified xsi:type="dcterms:W3CDTF">2011-05-26T02:58:36Z</dcterms:modified>
  <cp:revision>6</cp:revision>
  <dc:subject/>
  <dc:title>Diapositiva 1</dc:title>
</cp:coreProperties>
</file>